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87E6-6639-453A-8C79-C9A72563D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E75D-2470-412B-820F-1044586F5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EC4-3B02-4B3D-8A2B-5D7C6C43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091-F9F1-4AFD-8ACE-63558035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68091-8DF6-47FA-A504-F6C40F43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19BE5-4BF9-4052-A43D-4791B996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0B0FE-B8F6-4239-A75D-D95A88BB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32E5E-F489-47C6-90FE-D9251878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1EEA8A-58A1-491E-AE6A-A0B9A1F1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D8FDE-3124-476E-BC45-C50F2C41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ABF36-581D-4E36-BF15-0016802A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47374E-FD45-4D85-99DF-3DA7D632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2C8AE-6272-4B46-BA3C-7B2F9EC2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930B1-B6CF-4FFD-B9AF-CCBE68F4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7F8-5453-4A73-BF1A-A86C0D9E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8AA30-4512-4A0E-9A8E-5D03B1AC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65DA5-3D69-4376-94CE-B808E73B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07B34-46EF-4598-B403-ED7278C6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F69D0-05C4-453D-9E39-1783408D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69893-0FD0-4884-8CC5-4F989CCE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54E35-3050-4DD3-B434-91154203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3976F-82EA-461E-9F0C-FFDC7C3E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F33CA-F934-4F98-94D8-8F91378D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BADA11-3E50-4F6A-91A3-01C87B3F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80539E-AF77-41CF-A20C-9C06CFD2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35B-E45A-40E2-8879-14064FFF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8E165-2BF9-434D-AE16-0A0C8F03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17E28-5641-4BD3-B736-F7F1C740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F7BB2-AA6F-4D15-9D55-BCF975A5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72D48-51A7-4E08-AE57-1ECEC5C1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79C3A-97AA-41A5-A091-3FBD0BF3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AFCDC-AB07-4AFD-A93E-EE0BFEE1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A452A-A934-457E-94F0-1031A9B9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195A6-4DF8-415B-B00B-36DC75B8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D0283-DB38-4642-A548-7D8A0DD1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C62E4-9AB0-46E6-A534-C1708017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AD8E-99B3-412B-A050-364885CE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4EF63-CF70-478C-A0C6-AF2481D2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0151D-FF56-4466-A870-46A39F19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B9626-9B4A-4DA8-8442-ABC845D8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5563F-20D5-4BC4-9ACC-AB6E1205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AC057-61A4-47CE-BFAD-C4098F9E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FE836B-047E-429B-ADD0-0F830B11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93C80-E7D1-4347-8093-EFCA9B7A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B4D695-95B8-458F-BED2-CF3BED34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8A8F9-C84C-4E01-BE7B-5A91CFE8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40DB3-5389-4662-8473-4AABC977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FB57-7153-4DB7-9CF9-D26677C3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54D7B-DEDE-442F-9AEB-2C952C45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363F54-CF7C-4B6C-A413-6982B586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669A8F-B86F-437A-AEFB-4008D79E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F2B29-F4BE-4B77-A252-523CE045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56DB2-BCF7-43D3-9994-A82C1030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3C7A-B1C9-4D48-9574-DD21DD75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A437-B6FC-41B2-BB11-C663C1E0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2600-8CE8-421A-93A3-BF04624C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10FB-8711-4F53-ACAB-E5ABAE6B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1F24-1EF7-4926-92CE-CD5B0EB1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DCF-2880-4D55-9623-88122A09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E53F-7242-4B9D-8DA3-DD98249A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8A6F-EB3D-4052-9A37-BFF1E329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537F-63BB-4087-BA57-4D3F0C14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65E5-C5E2-45AA-9017-4CD09269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1890-D02F-4144-8344-9F79EA26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0EF2-7662-46E5-8B00-3263DBDC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7B2F5-4414-474D-83CB-9C44C588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2C976-EE85-463C-99CE-369A0FB1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2F459-DB3F-4343-AFB3-6B88CDF0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B7BBF-2557-4CB9-96A1-AF08C49E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EEF-6E65-407C-B59F-7C9517A8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D7407-EB16-415E-ACD5-8A5F5F46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F6BBB-DA6F-4268-A174-93B2FFA9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D53E0-9FCA-4C03-851E-31CAE2ED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93991-93C3-4D9E-AF93-FFB854A3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0C25-0BFD-43EC-9FBD-A24A6446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22AD4-375E-498E-BB3A-F7A60A1B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2CC67-520C-4671-9166-339D42B4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65D10-862A-4005-B16F-ABBFFC7F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8DCEB-8503-4D23-8670-2949E7B8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3AD45-AAF5-4BEE-826E-C173A699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E74-688E-405E-81BF-FADA90B1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B4C1D-D2B9-446B-879F-544A09B6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E89B0-FB56-47D1-A37F-CAC276C5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B2876-EC70-4B7E-A600-FCD69FD5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F2A3E-B5FC-42A2-A91C-94CCB7E2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F4A66-643C-4A19-B6CB-423F7520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50459-77FF-4783-A097-E62D5507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23B94-FA7B-43B0-AB47-7D289813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16BC4-6054-4BC3-A689-FA573D9C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83848-1D2F-4FF8-B787-48E4B21E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A9853-1858-4BF6-91D9-804496E7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A591-9078-4FC5-845A-D96BC6BB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F4D2E-7EE3-43C1-8F61-8A3E1CDD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E2F5C-F363-432B-8EB2-A36D714E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D0DA2-A1E9-4587-9A5A-D03CBB3E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E5AC2-34AA-45D3-B251-FF38913C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17A88-6EC6-4404-A8C3-EC03F109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94727-5E8B-4BB4-A211-B1D6516E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81B84-3D6A-49CE-A49D-81C09FD0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F2B2A-6901-421A-8F67-84D6ED83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CAD36-20D3-428D-9280-A24E7B5E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A3787-9B8B-4851-9798-B3FDFF47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306-D80C-4869-9B16-86BE67DC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8D2B7-8627-4D26-B6A2-3D6EEA29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9229E-7C8B-45AB-813E-2EBAB1D5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80F16-31FA-4A49-954E-02D75A17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08435-B515-400A-942E-698FF1F4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5B017-E3B8-41B6-9A2F-F92DB5FB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9CAE4-389B-4CE1-BFCA-D7CAA21E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EB914-64DE-4BBF-B3C9-AA2574C3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8BD5E-4D93-450A-AE0F-DB566167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AA998-1296-4418-B407-C49254E7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3C17F-EC26-40DC-B6C1-E795CD2B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462-B1A9-4D06-BBB6-401C9AB4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D75EC-1FE1-4FBE-9D37-3F45AC80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82C22-A784-4512-B6C9-04850D85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1267D-D969-41B1-9D3A-044E580D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00AD6-161E-4B89-B30C-BB15192E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450BF-EFBA-43E5-A969-67343C75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FCC94-E0AB-4792-8071-4836697D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53FD2-35F0-4DC0-A5C5-68D84A27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AA3A2-BBF0-46A1-A27E-6882482E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E5849-0DBE-4AF4-A0EE-A1D1D008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56264-EB46-4B62-BF66-CF017402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430-06BB-4A2E-8136-104DE8CD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C5283-ABBB-4AA9-98B5-E298C498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A5C01-D67B-41B3-9363-8198D83C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BA330-8080-4154-A6E8-981F2C4F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9C638-F917-4411-8345-B287BEDD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5CCDC-6E97-4137-9ED9-D33D2BE2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9C3DE-076B-4495-8E92-1A8722A6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60E9D-4FDC-4776-9CFF-876DAE02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6BDE4-5356-422E-8085-724ABFB1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CF9AD-5AFE-4B5B-B234-C3ECC78F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ADF96-F20C-49F9-B3DD-61CE15CC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12B-BAD6-47E1-BB33-D941D37C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BB034-B48E-4534-97BD-B7CCBA91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4947A-AD7A-4115-83AC-F65701D5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B073E-F25F-45C1-9347-0B83E91D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9CB4A-79C7-44F4-B88A-3E825CD1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1EF43-8F3D-4D40-B4D0-5961B0CE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FEAFC-40E9-42D9-BDA7-9736D51E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D4AC5-8191-422C-BB74-A67C8016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C0AF0-17DC-4B4F-9851-799BD6CD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051DE-C804-4B7D-B367-3E26D6D2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413364-B369-4907-BF47-4769E1CC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9079-AFB9-4525-84BE-0801A61324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007B-6BBF-46B1-8AEE-1BFCE232FF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8EE5-D26E-4B7E-AD52-1C67E89542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FCD9-BA0E-404B-A923-B0BE07F025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6FEA-1DF7-485D-A378-25309BA8F6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09F8-25E6-4471-BB43-41BDCE5B61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5055-A96F-4A50-9D6F-185A13D7F6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D8CC-64D1-4F67-9DDD-1F7C8ACA2B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E76D-2E27-4754-94A0-81377A8B82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F80C-3C73-4DDE-B6BB-5D68E3BC7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BEA9-B2CF-41A2-9357-FFA630C731D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ED0B-18FC-4512-9E3E-E55F02B286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666520" y="4147920"/>
            <a:ext cx="403884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OCTOBER 8-9,2013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     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GENDA ITEM 16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Status of Combined Sewer Overflow Abate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8" descr="seal2"/>
          <p:cNvPicPr/>
          <p:nvPr/>
        </p:nvPicPr>
        <p:blipFill>
          <a:blip r:embed="rId1"/>
          <a:stretch/>
        </p:blipFill>
        <p:spPr>
          <a:xfrm>
            <a:off x="6705720" y="350532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C:\Users\stacey\AppData\Local\Microsoft\Windows\Temporary Internet Files\Content.Outlook\5TSAKQJ3\DSC_3218.JPG"/>
          <p:cNvPicPr/>
          <p:nvPr/>
        </p:nvPicPr>
        <p:blipFill>
          <a:blip r:embed="rId2"/>
          <a:stretch/>
        </p:blipFill>
        <p:spPr>
          <a:xfrm>
            <a:off x="380880" y="2666880"/>
            <a:ext cx="24386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5" descr="C:\Users\stacey\AppData\Local\Microsoft\Windows\Temporary Internet Files\Content.Outlook\5TSAKQJ3\CSO_communities_2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b9899"/>
                </a:solidFill>
                <a:latin typeface="Georgia"/>
              </a:rPr>
              <a:t>     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38280" y="4419720"/>
            <a:ext cx="4267440" cy="1828800"/>
          </a:xfrm>
          <a:prstGeom prst="rect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2" marL="822240" indent="-228600">
              <a:spcBef>
                <a:spcPts val="374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Pennsylvania – 10 communitie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West Virginia – 10 communitie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Ohio – 10 communitie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Kentucky – 10 communitie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Indiana – 7 communitie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Illinois – 2 communitie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Chart 2" descr=""/>
          <p:cNvPicPr/>
          <p:nvPr/>
        </p:nvPicPr>
        <p:blipFill>
          <a:blip r:embed="rId1"/>
          <a:stretch/>
        </p:blipFill>
        <p:spPr>
          <a:xfrm>
            <a:off x="146160" y="146160"/>
            <a:ext cx="885168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61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ine Minimum Control Status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st of the communities are progressing toward full implementation of the NMC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per Operation and Maintenance and Pretreatment are two of the NMCs that are below 90% implement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cus now is LTCP submittal which incorporates NMC implement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Chart 2" descr=""/>
          <p:cNvPicPr/>
          <p:nvPr/>
        </p:nvPicPr>
        <p:blipFill>
          <a:blip r:embed="rId1"/>
          <a:stretch/>
        </p:blipFill>
        <p:spPr>
          <a:xfrm>
            <a:off x="146160" y="225360"/>
            <a:ext cx="86994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ong Term Control Plan (LTCP) Statu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nly 2 Communities have not submitted a LTCP and 17 Communities are still waiting on State Approval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urrently 43 out of the 49 CSO Communities have either a Federal or State enforcement action against them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LTCP for Louisville MSD was revised in 2012 and is currently being reviewed for approval by EPA and KDEP, with approval anticipated later this fall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raopolis Borough is waiting on a revised LTCP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Pennsylvania, 3 Communities have completed the Presumption Approach (85% capture) and two Communities are underway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Chart 2" descr=""/>
          <p:cNvPicPr/>
          <p:nvPr/>
        </p:nvPicPr>
        <p:blipFill>
          <a:blip r:embed="rId1"/>
          <a:stretch/>
        </p:blipFill>
        <p:spPr>
          <a:xfrm>
            <a:off x="-6480" y="146160"/>
            <a:ext cx="8925120" cy="65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SO Data Request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RSANCO  staff has been working with Region 5 on the Bacteria TMDL. The TMDL Workgroup has made several attempts to obtain data directly from each CSO Community, but information is still lacking to obtain a complete understanding of the characteristics of many of them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RSANCO staff has also sent out data requests and has received little feedback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gion 5 has requested more information from the CSO Communities with a deadline of November 1, 2013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nce more data is available ORSANCO plans on compiling it and using it to track the CSO Communities progress.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SO data will also be available electronically through the ICIS-NPDES database which will make gathering this data easier in the futur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171360" y="4667400"/>
            <a:ext cx="44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6" descr="C:\Users\Stacey\AppData\Local\Microsoft\Windows\Temporary Internet Files\Content.Outlook\5KDLDSVY\IMG00534-20110623-1045 (3).jpg"/>
          <p:cNvPicPr/>
          <p:nvPr/>
        </p:nvPicPr>
        <p:blipFill>
          <a:blip r:embed="rId1"/>
          <a:stretch/>
        </p:blipFill>
        <p:spPr>
          <a:xfrm>
            <a:off x="762120" y="380880"/>
            <a:ext cx="7772400" cy="617220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TextBox 4"/>
          <p:cNvSpPr/>
          <p:nvPr/>
        </p:nvSpPr>
        <p:spPr>
          <a:xfrm>
            <a:off x="2971800" y="4495680"/>
            <a:ext cx="35560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contact Stacey Coch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513-231-7719 ext:1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4:28:24Z</dcterms:created>
  <dc:creator>Minday Scott</dc:creator>
  <dc:description/>
  <dc:language>en-US</dc:language>
  <cp:lastModifiedBy>jklear</cp:lastModifiedBy>
  <dcterms:modified xsi:type="dcterms:W3CDTF">2013-10-15T15:29:50Z</dcterms:modified>
  <cp:revision>195</cp:revision>
  <dc:subject/>
  <dc:title>Status of Combined Sewer Overflow Abatement</dc:title>
</cp:coreProperties>
</file>